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20th%20Century%20Fox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813-B5C6-4909-95B5-77D04C84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DD7-F7EF-487A-B7C6-C1CD479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F1C-DB06-4ADD-8798-ABBB5FCF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2ED-CE96-48A4-AA77-A6ECB023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080-1D26-4EBE-8683-B8601CC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BDD-D4CC-43B3-BDF9-38627D9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57F-5F85-4593-891E-8B88A881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BE7-3131-409E-B085-334247D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D8E-780D-4579-B0D7-3D6AC9A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B90-4440-4369-B9A7-7E3ACFA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2B1-ADEA-4882-9DE9-488D0F2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9FA-6B6C-4E4A-9378-3247440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66FD-7A66-4036-9229-6163CE46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29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30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31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32.xml"/><Relationship Id="rId27" Type="http://schemas.openxmlformats.org/officeDocument/2006/relationships/slide" Target="slide13.xml"/><Relationship Id="rId28" Type="http://schemas.openxmlformats.org/officeDocument/2006/relationships/slide" Target="slide18.xml"/><Relationship Id="rId29" Type="http://schemas.openxmlformats.org/officeDocument/2006/relationships/slide" Target="slide23.xml"/><Relationship Id="rId30" Type="http://schemas.openxmlformats.org/officeDocument/2006/relationships/slide" Target="slide28.xml"/><Relationship Id="rId31" Type="http://schemas.openxmlformats.org/officeDocument/2006/relationships/slide" Target="slide33.xml"/><Relationship Id="rId32" Type="http://schemas.openxmlformats.org/officeDocument/2006/relationships/audio" Target="../media/whoosh.wav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0th%20Century%20Fox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80880"/>
            <a:ext cx="6477120" cy="24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Poor Richard"/>
              </a:rPr>
              <a:t>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noFill/>
              <a:latin typeface="Poor Richard"/>
              <a:ea typeface="Poor Richard"/>
            </a:endParaRPr>
          </a:p>
        </p:txBody>
      </p:sp>
    </p:spTree>
  </p:cSld>
  <p:transition spd="med">
    <p:random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s it been si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 last chang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Angus carve into the side of the tree with the 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es Angus make sure that the Tucks are going to live fore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572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hoots himself with hi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uck say at the end of the story to the toad, that was iron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n thing must think it’s g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to live forev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iece of jewelry does Mae wear when she leaves to meet Miles and Jes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oo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own that makes a song/no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usic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hit the stranger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the constable say that Mae might d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l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Mae think about living forev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267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thinks that what’s done is done, and that there’s no use fussing over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iles normally work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lack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762120"/>
            <a:ext cx="5486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ased on the book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29528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uck Everlast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905120"/>
            <a:ext cx="55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y Natalie Babbi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5715000"/>
            <a:ext cx="8991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was created by Sal DeFrancesc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i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med" advTm="7000">
    <p:random/>
    <p:sndAc>
      <p:stSnd>
        <p:snd r:embed="rId2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 ______ years Miles and Jesse come back h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es Miles let the fish he caught swim a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et it go because Winnie didn’t want to see the fish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id Miles’s family leave him and how many children did he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1911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left because Miles wasn’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ing in appearance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he had tw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ound does Miles use to cover up the noise of the b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excuse does Jesse use to make sure that Winnie didn’t drink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80988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that since the water came up from the ground, it was probably dirty and bad for your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 rot="21585600">
            <a:off x="762120" y="34290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/>
                  </a:outerShdw>
                </a:effectLst>
                <a:latin typeface="High Tower Text"/>
              </a:rPr>
              <a:t>Twice Tuck!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85144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ick a Wa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12193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Jesse when he meets Winnie? (Hint: Both ages. The age he’s stuck at and the age he would be if he didn’t drink the w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44956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ck: 17                               Didn’t Drink Water: 1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676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Jesse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what age does Jesse want Winnie to drink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happened to Jesse that would have broken his neck, but didn’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l out of 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’s appearance remind Winnie ab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bbons at her grandpa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1752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uck Everlasting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9907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91720" y="990720"/>
            <a:ext cx="152280" cy="586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1752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us 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1752480" cy="97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e Tu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98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Tu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420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tran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006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339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9051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8195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098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8769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8672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2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name of the type of deal that the stranger made with the Fos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ack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 get hit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the stranger related to/knowledgeable about Miles’s wife and k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ranger’s grandmother was a friend of Mile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 stranger plan to do with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219320" y="914400"/>
            <a:ext cx="6705360" cy="297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1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Jesse is actually 104 and he is stuck at age 17, then how old would Miles really be if he is stuck at age 2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4952880"/>
            <a:ext cx="5715000" cy="1676520"/>
          </a:xfrm>
          <a:prstGeom prst="rect">
            <a:avLst/>
          </a:prstGeom>
          <a:blipFill rotWithShape="0">
            <a:blip r:embed="rId3"/>
            <a:srcRect/>
            <a:stretch/>
          </a:blipFill>
          <a:ln w="21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would really be 109 years o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nal Foster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5410080"/>
            <a:ext cx="1371600" cy="144792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920"/>
              <a:gd name="textAreaBottom" fmla="*/ 135900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  <a:path fill="darken" w="21600" h="22802">
                <a:moveTo>
                  <a:pt x="3794" y="4394"/>
                </a:moveTo>
                <a:lnTo>
                  <a:pt x="17806" y="11401"/>
                </a:lnTo>
                <a:lnTo>
                  <a:pt x="3794" y="1840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 rot="20461200">
            <a:off x="272880" y="1803240"/>
            <a:ext cx="8848800" cy="33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Poor Richard"/>
              </a:rPr>
              <a:t>Thank You For Playing 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Poor Richard"/>
              <a:ea typeface="Poor Richard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324480" y="2362320"/>
            <a:ext cx="2590920" cy="12952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  <p:sndAc>
      <p:stSnd>
        <p:snd r:embed="rId2" name="20th%20Century%20Fox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see i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ing, next to a t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Winnie when s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s the Tu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begin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6765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Winnie do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pours it onto the t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6765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Angus and Mae go back to Treegap, how long had it been since Winnie had died?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(Hint: In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876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21585600">
            <a:off x="762120" y="36576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08080"/>
                  </a:outerShdw>
                </a:effectLst>
                <a:latin typeface="High Tower Text"/>
              </a:rPr>
              <a:t>Twice Tuck!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0808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8453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ick a Wa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one word that describes Angus Tuck the most?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Hint: Synonym of S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21:25:31Z</dcterms:created>
  <dc:creator> </dc:creator>
  <dc:description/>
  <dc:language>en-US</dc:language>
  <cp:lastModifiedBy> </cp:lastModifiedBy>
  <dcterms:modified xsi:type="dcterms:W3CDTF">2010-02-25T23:49:12Z</dcterms:modified>
  <cp:revision>38</cp:revision>
  <dc:subject/>
  <dc:title>PowerPoint Presentation</dc:title>
</cp:coreProperties>
</file>